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139E-0F39-4510-87A5-1E15AB0ECA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AFCF-79B1-4034-A77B-B58E13F455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9964-19B6-4DCB-B643-937F7CB515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D908-2CB5-4036-87C3-ACE7B87FAC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5E68-1426-4E2C-8472-A6F028458C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3338-6F53-4494-AED1-A5BE42A77C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094D-5464-40EE-9707-6D982E9338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7385-47A4-449B-B84C-2CC6709CAA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A1FB-DE55-4215-A724-C92F6ABEFB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DCC5-EE3D-4D9E-BF18-D1DDC2286C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B144-D42A-45C1-906A-0F3D4A3590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7074-5B54-480E-987C-CBFB57C1DE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20C8-2B54-4B93-9C7A-5B879FCA55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498E-8872-4EAF-A9B8-A26843819B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01D-5692-4984-B05A-29B0C6CD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3CD-EB94-48AD-B15F-5A88A483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3A0-8FFE-4807-8ACE-A8F9A733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48A-1C26-4707-82DC-740C428F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C34F-3563-46BA-9FA4-30C7561B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9BC3-8C49-4AFA-B385-BBDFD175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B94C-2CC7-4E52-B0D4-95539894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C4D0-B320-4F98-B7D9-F91F16C9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F03D-1346-4BF5-99B8-5D516433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B1FF-2FFC-4A6A-901A-1E215D81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0ABC-3ABC-4DE2-B098-260981EB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78B-DE9E-4D52-8E34-DE1DF811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8DA3-CAE5-4719-BD22-6BE63E50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A0DF-2EC5-45D3-91F6-B4FD0404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2F14-E7F3-44C5-9794-81CE1DB7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3C68-553D-4775-81E0-FABB9F6A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55D6-5BD3-4A30-BCB5-DC8F5226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65A-761F-45E0-8FC3-FE95722E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4B1-294F-4090-83A4-BCD4EBA1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237-BB6A-4A07-A215-3A478481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257-FFEE-414C-B6EA-F660641F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44D-930C-4D77-9B5A-088F6F00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937-05E1-4204-BE18-33BF757B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910-44AB-4057-8F88-074700CA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E48F-FA09-4965-9765-913D7116B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F704-77BF-4618-B7E7-A0603E558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llez, viens! – Level 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itre 1 – Deuxième Éta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ense à prend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7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Russie en hiver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8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au Hawaii en printemp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9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Angleterre en automn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10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Polynésie en été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Directions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gardez la destination présentée. Puis, dites à votre partenaire où vous allez aller là. Votre partenaire doit vous recommander un vêtement pour le voy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ariez les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odè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E1: Je vais en France pour l’été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Qu’est-ce je dois prendr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E2: Il fait chaud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ahoma"/>
              </a:rPr>
              <a:t>Prends un maillot de bain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1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au Québec en hiver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à la Martinique au printemp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3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Suisse en automn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4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Australie en été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5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en Finlande au printemp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6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ahoma"/>
              </a:rPr>
              <a:t>au Bermuda en été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1-11-09T22:25:47Z</dcterms:modified>
  <cp:revision>77</cp:revision>
  <dc:subject/>
  <dc:title>Allez, viens! – Level 2</dc:title>
</cp:coreProperties>
</file>